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39080" y="0"/>
            <a:ext cx="304920" cy="6834240"/>
          </a:xfrm>
          <a:prstGeom prst="rect">
            <a:avLst/>
          </a:prstGeom>
          <a:solidFill>
            <a:srgbClr val="065e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-23760" y="0"/>
            <a:ext cx="1689120" cy="6834240"/>
          </a:xfrm>
          <a:prstGeom prst="rect">
            <a:avLst/>
          </a:prstGeom>
          <a:solidFill>
            <a:srgbClr val="005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-34920" y="0"/>
            <a:ext cx="917892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508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2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0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000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Line 4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177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>
            <a:hlinkClick r:id="rId2" action="ppaction://hlinksldjump"/>
          </p:cNvPr>
          <p:cNvSpPr/>
          <p:nvPr/>
        </p:nvSpPr>
        <p:spPr>
          <a:xfrm>
            <a:off x="8839080" y="6553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6553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oncert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304920" y="304920"/>
            <a:ext cx="8686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Lesson 11.7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ess Ki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638680" y="63244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Arial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84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1.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SEM Communic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Rectangle 5"/>
          <p:cNvSpPr/>
          <p:nvPr/>
        </p:nvSpPr>
        <p:spPr>
          <a:xfrm>
            <a:off x="304920" y="2069280"/>
            <a:ext cx="411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Verdana"/>
              </a:rPr>
              <a:t>Press kits are important as they provide much information regarding an organization or event to media in a variety of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Verdana"/>
              </a:rPr>
              <a:t>Press kits are also referred to as media k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4648320" y="1981080"/>
            <a:ext cx="0" cy="38862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5105520" y="281952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Press 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ackage of information distributed to the media to assist them in repor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3352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ess K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92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1.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SEM Communic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5"/>
          <p:cNvSpPr/>
          <p:nvPr/>
        </p:nvSpPr>
        <p:spPr>
          <a:xfrm>
            <a:off x="228600" y="2362320"/>
            <a:ext cx="86104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80880" y="17514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ress kits include a variety of informative pi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53352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ess K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838080" y="3124080"/>
            <a:ext cx="4191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Athlete, entertain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organization or event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Fact she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Biograp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4" descr="press-kit-cover"/>
          <p:cNvPicPr/>
          <p:nvPr/>
        </p:nvPicPr>
        <p:blipFill>
          <a:blip r:embed="rId1"/>
          <a:stretch/>
        </p:blipFill>
        <p:spPr>
          <a:xfrm>
            <a:off x="5867280" y="2590920"/>
            <a:ext cx="2881440" cy="373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01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1.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SEM Communic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Line 5"/>
          <p:cNvSpPr/>
          <p:nvPr/>
        </p:nvSpPr>
        <p:spPr>
          <a:xfrm>
            <a:off x="228600" y="2133720"/>
            <a:ext cx="86104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380880" y="15991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ress kits include a variety of informative pi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3352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ess K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533520" y="2590920"/>
            <a:ext cx="411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Photo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Statistic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Current press rel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Related press clipp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" descr="Arena Football 2 - News Release - Schedule_1"/>
          <p:cNvPicPr/>
          <p:nvPr/>
        </p:nvPicPr>
        <p:blipFill>
          <a:blip r:embed="rId1"/>
          <a:stretch/>
        </p:blipFill>
        <p:spPr>
          <a:xfrm>
            <a:off x="5280120" y="2209680"/>
            <a:ext cx="335916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10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1.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SEM Communic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Line 5"/>
          <p:cNvSpPr/>
          <p:nvPr/>
        </p:nvSpPr>
        <p:spPr>
          <a:xfrm>
            <a:off x="304920" y="2057400"/>
            <a:ext cx="86104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457200" y="15228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ress kits include a variety of informative pi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53352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ess K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0" y="2590920"/>
            <a:ext cx="5715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Historical chro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Organizational news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Testimonials from key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Recommendations for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2" descr=""/>
          <p:cNvPicPr/>
          <p:nvPr/>
        </p:nvPicPr>
        <p:blipFill>
          <a:blip r:embed="rId1"/>
          <a:stretch/>
        </p:blipFill>
        <p:spPr>
          <a:xfrm>
            <a:off x="5791320" y="2209680"/>
            <a:ext cx="313344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19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1.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SEM Communic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Line 5"/>
          <p:cNvSpPr/>
          <p:nvPr/>
        </p:nvSpPr>
        <p:spPr>
          <a:xfrm>
            <a:off x="228600" y="2438280"/>
            <a:ext cx="86104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380880" y="18277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ectronic Press Kits are Gaining Pop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53352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ess K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838080" y="2895480"/>
            <a:ext cx="7925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Ease of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Distribution to more out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Allows for incorporation of audio, video and multimedia presentation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304920" y="28195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Blank Slide Available</a:t>
            </a:r>
            <a:br>
              <a:rPr sz="3600"/>
            </a:b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for Teacher Ed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3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28" name="Text Box 4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1.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5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SEM Communic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 Box 6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1295280"/>
            <a:ext cx="167004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ports &amp; Entertainment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0" y="380880"/>
            <a:ext cx="6553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SSON 11.7 REVIEW (ANSW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>
            <a:hlinkClick r:id="rId1" action="ppaction://hlinksldjump"/>
          </p:cNvPr>
          <p:cNvSpPr/>
          <p:nvPr/>
        </p:nvSpPr>
        <p:spPr>
          <a:xfrm>
            <a:off x="8839080" y="6553080"/>
            <a:ext cx="304920" cy="304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828800" y="1447920"/>
            <a:ext cx="68580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) Recognize the types of information typically included in press k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Press kits could include athlete, entertainer, organization or event background information, fact sheets, bios, photographs, stats, contact information, relevant press releases, newsletters, testimonials or recommendations for feature s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502920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01:03:36Z</dcterms:created>
  <dc:creator>Copyright © 2012 by Sports Career Consulting, LLC</dc:creator>
  <dc:description/>
  <dc:language>en-US</dc:language>
  <cp:lastModifiedBy>Chris Lindauer</cp:lastModifiedBy>
  <dcterms:modified xsi:type="dcterms:W3CDTF">2020-09-01T02:11:58Z</dcterms:modified>
  <cp:revision>297</cp:revision>
  <dc:subject/>
  <dc:title>Lesson 11.7 - Slides- Press Kits</dc:title>
</cp:coreProperties>
</file>