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39080" y="0"/>
            <a:ext cx="304920" cy="6834240"/>
          </a:xfrm>
          <a:prstGeom prst="rect">
            <a:avLst/>
          </a:prstGeom>
          <a:solidFill>
            <a:srgbClr val="065e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-23760" y="0"/>
            <a:ext cx="1689120" cy="6834240"/>
          </a:xfrm>
          <a:prstGeom prst="rect">
            <a:avLst/>
          </a:prstGeom>
          <a:solidFill>
            <a:srgbClr val="005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-34920" y="0"/>
            <a:ext cx="91789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508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77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oncert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304920" y="30492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esson 11.6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ess Relea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638680" y="63244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49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SEM Commun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5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51"/>
          <p:cNvGraphicFramePr/>
          <p:nvPr/>
        </p:nvGraphicFramePr>
        <p:xfrm>
          <a:off x="380880" y="990720"/>
          <a:ext cx="429732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42973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52"/>
          <p:cNvGraphicFramePr/>
          <p:nvPr/>
        </p:nvGraphicFramePr>
        <p:xfrm>
          <a:off x="4572000" y="1066680"/>
          <a:ext cx="4238640" cy="548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2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066680"/>
                    <a:ext cx="42386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253" descr="TN00537_[1]"/>
          <p:cNvPicPr/>
          <p:nvPr/>
        </p:nvPicPr>
        <p:blipFill>
          <a:blip r:embed="rId5"/>
          <a:stretch/>
        </p:blipFill>
        <p:spPr>
          <a:xfrm>
            <a:off x="7210440" y="4648320"/>
            <a:ext cx="1600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04920" y="2819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Blank Slide Available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for Teacher Ed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59" name="Text Box 4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5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SEM Commun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6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1295280"/>
            <a:ext cx="167004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orts &amp; Entertainment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380880"/>
            <a:ext cx="65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SON 11.6 REVIEW (ANSW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>
            <a:hlinkClick r:id="rId1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828800" y="1447920"/>
            <a:ext cx="6858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) Create a press release with all its essential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 good press release includes a date, release statement, catchy headline, contact information, the lead, text, the pitch and the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02920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84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SEM Commun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5"/>
          <p:cNvSpPr/>
          <p:nvPr/>
        </p:nvSpPr>
        <p:spPr>
          <a:xfrm>
            <a:off x="304920" y="312408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Verdana"/>
              </a:rPr>
              <a:t>Commonly referred to as a news or media rel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4572000" y="1752480"/>
            <a:ext cx="0" cy="4114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4876920" y="2438280"/>
            <a:ext cx="396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Press Rele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rewritten story about an organization or athlete/entertainer that is disseminated to various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3352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ss Rel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92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SEM Commun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5"/>
          <p:cNvSpPr/>
          <p:nvPr/>
        </p:nvSpPr>
        <p:spPr>
          <a:xfrm>
            <a:off x="228600" y="2438280"/>
            <a:ext cx="86104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04920" y="18277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ress Releases Should Address Specif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80880" y="3200400"/>
            <a:ext cx="4114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Releas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Hea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53352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ss Rel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4724280" y="3200400"/>
            <a:ext cx="4191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The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Text (Body of Rel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01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SEM Commun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Line 5"/>
          <p:cNvSpPr/>
          <p:nvPr/>
        </p:nvSpPr>
        <p:spPr>
          <a:xfrm>
            <a:off x="228600" y="2590920"/>
            <a:ext cx="86104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57200" y="17978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Three Categories of Press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2666880" y="3200400"/>
            <a:ext cx="4953240" cy="26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Pre-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Live-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Post-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53352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ss Rel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09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SEM Commun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5"/>
          <p:cNvSpPr/>
          <p:nvPr/>
        </p:nvSpPr>
        <p:spPr>
          <a:xfrm>
            <a:off x="228600" y="261792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Verdana"/>
              </a:rPr>
              <a:t>If a team wanted to release the signing of a key free agent to the media, an advance story would alert the media to a press conference the following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4572000" y="1752480"/>
            <a:ext cx="0" cy="4114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876920" y="2743200"/>
            <a:ext cx="396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Pre-Rele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ress release that occurs before the event takes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352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ss Rel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17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SEM Commun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5"/>
          <p:cNvSpPr/>
          <p:nvPr/>
        </p:nvSpPr>
        <p:spPr>
          <a:xfrm>
            <a:off x="380880" y="274032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Verdana"/>
              </a:rPr>
              <a:t>A second story is released at the actual news release when the new player is formally introduced to the media at the pres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4648320" y="1752480"/>
            <a:ext cx="0" cy="4114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952880" y="31240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Live-Rele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ress release that occurs during th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53352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ss Rel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25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SEM Commun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304920" y="24652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Verdana"/>
              </a:rPr>
              <a:t>The next few days following the press conference, additional releases are sent out referencing details of the player’s new contract, plans for success and past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572000" y="1752480"/>
            <a:ext cx="0" cy="4114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4952880" y="289548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Post-Rele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ress release that occurs after the event has tak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3352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ss Rel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33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SEM Commun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Line 5"/>
          <p:cNvSpPr/>
          <p:nvPr/>
        </p:nvSpPr>
        <p:spPr>
          <a:xfrm>
            <a:off x="304920" y="2286000"/>
            <a:ext cx="86104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80880" y="167544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ypical Information Communicated Via Press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85800" y="2514600"/>
            <a:ext cx="84582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Announcement of a team’s key free ag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acqui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Release of game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Highlights of a new blockbuster film to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Announcement of an upcoming 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Description of an upcoming community rel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53352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ss Rel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41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SEM Commun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5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TN00537_[1]"/>
          <p:cNvPicPr/>
          <p:nvPr/>
        </p:nvPicPr>
        <p:blipFill>
          <a:blip r:embed="rId1"/>
          <a:stretch/>
        </p:blipFill>
        <p:spPr>
          <a:xfrm>
            <a:off x="7620120" y="990720"/>
            <a:ext cx="1266840" cy="1447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TN00537_[1]"/>
          <p:cNvPicPr/>
          <p:nvPr/>
        </p:nvPicPr>
        <p:blipFill>
          <a:blip r:embed="rId2"/>
          <a:stretch/>
        </p:blipFill>
        <p:spPr>
          <a:xfrm>
            <a:off x="228600" y="990720"/>
            <a:ext cx="1266840" cy="1447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26668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scussion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28600" y="2514600"/>
            <a:ext cx="8534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Review the press release handout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answer the 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* What information is being communic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* What type of release is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* Does the release address ke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* Overall, is this an effective release?  Why or why no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1:03:36Z</dcterms:created>
  <dc:creator>Copyright © 2012 by Sports Career Consulting, LLC</dc:creator>
  <dc:description/>
  <dc:language>en-US</dc:language>
  <cp:lastModifiedBy>Chris Lindauer</cp:lastModifiedBy>
  <dcterms:modified xsi:type="dcterms:W3CDTF">2020-09-01T02:11:23Z</dcterms:modified>
  <cp:revision>298</cp:revision>
  <dc:subject/>
  <dc:title>Lesson 11.6- Slides-Sports  &amp; Entertainment Communications</dc:title>
</cp:coreProperties>
</file>