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B3C-7EEC-498D-8250-FFE76FFE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EF1-39B6-4205-8A71-341751BE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A32-6ECE-4F4E-85CD-8426A286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ED7-E351-4DB0-8AE7-E262AE77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570-9345-40FF-9103-15A8B6F2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7EB-4B7B-4C97-894A-720C1EB2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378-F9AA-4608-B5B0-9A222A5A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97C-A8EC-407A-83A8-3BA0A3CC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D76-0024-4402-9722-B9C96D0E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412-E4A8-4425-A44C-A0D51F8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275-6293-4222-92CC-91D45FB2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C3E-1AE4-457A-ADBF-72BCA45A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490E-AE52-4A7D-AB64-9845B7D1A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943600" cy="9144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Green Market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5943600" cy="7696080"/>
          </a:xfrm>
          <a:prstGeom prst="rect">
            <a:avLst/>
          </a:prstGeom>
          <a:solidFill>
            <a:srgbClr val="e5fa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Project Backgroun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oday’s consumer is more aware of how their buying decisions affect society and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nvironment around them- and are willing to make choices in their product purchases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ave an impact on the world around them.  A market research study conducted in 2009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cluded that environmentally-friendly packaging plays a vital role in consumer purch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ecisions and helps greener companies gain a competitive advantage over non eco-friendl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mpetitors.  Given the opportunity for a competitive advantage while doing their part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reate a better future, many sports and entertainment companies are moving toward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tegration of “green” initiatives as part of their overall marketing and publicity effor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reen marketing example:  </a:t>
            </a: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During the 2010 FIFA World Cup, 9 different teams wore Ni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jerseys made entirely from recycled plastic bottles retrieved from landfills in Taiwan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Japan .  Also in 2010, rival shoe maker Puma announced plans to launch a green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packaging initiative by phasing out the traditional cardboard shoe box and replacing it with 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new package that includes a bag, ultimately using 65% less cardboard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Project Deta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he U.S. Open of Surfing has just hired you as their new PR Director.  Your so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esponsibility in this role is to create green initiatives for the tournament to support.  You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ust develop a plan that will involve the event in at least three different green issues.  You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an create new initiatives that will be strictly dedicated to the U.S. Open of Surfing or you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an offer the support and services of the event to existing initiatives (or a combination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wo).  You will need to prepare a PPT presentation to share your plan with your class.  At 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inimum, your presentation must include the following informa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1)  Identification of three different green initiatives for which the U.S. Open of Surfing will b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vol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2)  Create a specific plan for HOW the U.S Open of Surfing will be involved.  Will you provi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volunteers?  Will you become a sponsor?  Will you help generate awareness for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itiative?  How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3)  What do you hope to accomplish through your involvement in the various gree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itiatives?  What are your goal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4)  Who, specifically, will be involved?  Athletes?  Executives?  Event planners?  Volunteer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5)  Create a press release to communicate the U.S. Open of Surfing’s new green initiativ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6)  Provide a detailed plan for each of the initiatives.  If you are organizing a beach clean u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vent, when will it be held?  Where?  Who can participate?  Are you asking for donations?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at are your specific objectives?  How many volunteers do you hope to recru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0" y="0"/>
            <a:ext cx="76320" cy="9144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152280" y="0"/>
            <a:ext cx="7632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6781680" y="0"/>
            <a:ext cx="76320" cy="9144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6629400" y="0"/>
            <a:ext cx="7632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0" y="0"/>
            <a:ext cx="6858000" cy="76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0" y="8915400"/>
            <a:ext cx="685800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685800" y="8991720"/>
            <a:ext cx="582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2010 by Sports Career Consulting, LLC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2" descr=""/>
          <p:cNvPicPr/>
          <p:nvPr/>
        </p:nvPicPr>
        <p:blipFill>
          <a:blip r:embed="rId1"/>
          <a:stretch/>
        </p:blipFill>
        <p:spPr>
          <a:xfrm>
            <a:off x="533520" y="284040"/>
            <a:ext cx="99036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3" descr=""/>
          <p:cNvPicPr/>
          <p:nvPr/>
        </p:nvPicPr>
        <p:blipFill>
          <a:blip r:embed="rId2"/>
          <a:stretch/>
        </p:blipFill>
        <p:spPr>
          <a:xfrm>
            <a:off x="5029200" y="217440"/>
            <a:ext cx="131760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1:10:33Z</dcterms:created>
  <dc:creator>Copyright © 2008 by Sports Career Consulting, LLC.  All Rights Reserved.</dc:creator>
  <dc:description/>
  <dc:language>en-US</dc:language>
  <cp:lastModifiedBy>Owner</cp:lastModifiedBy>
  <dcterms:modified xsi:type="dcterms:W3CDTF">2010-08-23T04:43:49Z</dcterms:modified>
  <cp:revision>101</cp:revision>
  <dc:subject>Copyright © 2008 by Sports Career Consulting, LLC.  All Rights Reserved.</dc:subject>
  <dc:title>Marketing Plan</dc:title>
</cp:coreProperties>
</file>