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26B-6644-4677-BAE5-C5DC3F7A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D02-594E-4CF4-BBC0-DE3462C6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085-6192-4BB6-A63F-10DF4475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813-7168-4086-92B6-35509697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BAF-FFC1-4318-B197-A75E31C2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16F-4829-410C-9FCD-DD31E655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4BD-C120-427B-BE1F-A6B81FC2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94B-F4E7-4D88-9E1B-9F9CC33D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805-D88D-44A0-8162-A44B66F9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4B9-C196-4FF1-A0B0-4A1017A2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32A-A193-483C-9407-A2508FF2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495-E805-43C9-AC1F-D1FB5F7B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E90F-FB96-428C-9133-01DA52829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14400" y="1862280"/>
            <a:ext cx="7920" cy="85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790560" y="2452680"/>
            <a:ext cx="1538280" cy="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382680" y="2862360"/>
            <a:ext cx="85680" cy="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560" y="1908000"/>
            <a:ext cx="3230280" cy="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33440" y="2862360"/>
            <a:ext cx="85680" cy="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41320" y="2384280"/>
            <a:ext cx="1555920" cy="7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062000" y="3697200"/>
            <a:ext cx="1538280" cy="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876320" y="3833640"/>
            <a:ext cx="85680" cy="8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690640" y="3494160"/>
            <a:ext cx="3230640" cy="7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505320" y="3833640"/>
            <a:ext cx="85680" cy="8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92160" y="154080"/>
            <a:ext cx="307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59912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press release is a prewritten story about an organization or athlete/entertainer that is disseminated to various m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8763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007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666880"/>
            <a:ext cx="61722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380880"/>
            <a:ext cx="3504960" cy="5814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s Rele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523880"/>
            <a:ext cx="61722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971800"/>
            <a:ext cx="411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Releas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H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5638680"/>
            <a:ext cx="4190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The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Text (Body of Rel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914400" y="1862280"/>
            <a:ext cx="7920" cy="85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790560" y="2452680"/>
            <a:ext cx="1538280" cy="7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-382680" y="2862360"/>
            <a:ext cx="85680" cy="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560" y="1908000"/>
            <a:ext cx="3230280" cy="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33440" y="2862360"/>
            <a:ext cx="85680" cy="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841320" y="2384280"/>
            <a:ext cx="1555920" cy="7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1062000" y="3697200"/>
            <a:ext cx="1538280" cy="7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1876320" y="3833640"/>
            <a:ext cx="85680" cy="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2690640" y="3494160"/>
            <a:ext cx="3230640" cy="7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3505320" y="3833640"/>
            <a:ext cx="85680" cy="8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92160" y="154080"/>
            <a:ext cx="307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04920"/>
          <a:ext cx="6831000" cy="8839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304920"/>
                    <a:ext cx="6831000" cy="88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914400" y="1862280"/>
            <a:ext cx="7920" cy="8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790560" y="2452680"/>
            <a:ext cx="1538280" cy="7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-382680" y="2862360"/>
            <a:ext cx="85680" cy="7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33440" y="2862360"/>
            <a:ext cx="85680" cy="7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841320" y="2384280"/>
            <a:ext cx="1555920" cy="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62000" y="3697200"/>
            <a:ext cx="1538280" cy="7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876320" y="3833640"/>
            <a:ext cx="85680" cy="8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2690640" y="3494160"/>
            <a:ext cx="3230640" cy="7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3505320" y="3833640"/>
            <a:ext cx="85680" cy="8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92160" y="154080"/>
            <a:ext cx="307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228600"/>
          <a:ext cx="6889680" cy="8915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228600"/>
                    <a:ext cx="6889680" cy="89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914400" y="1862280"/>
            <a:ext cx="7920" cy="85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790560" y="2452680"/>
            <a:ext cx="1538280" cy="7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-382680" y="2862360"/>
            <a:ext cx="85680" cy="7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5560" y="1908000"/>
            <a:ext cx="3230280" cy="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33440" y="2862360"/>
            <a:ext cx="85680" cy="7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41320" y="2384280"/>
            <a:ext cx="1555920" cy="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1062000" y="3697200"/>
            <a:ext cx="1538280" cy="7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876320" y="3833640"/>
            <a:ext cx="85680" cy="8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2690640" y="3494160"/>
            <a:ext cx="3230640" cy="7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3505320" y="3833640"/>
            <a:ext cx="85680" cy="8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92160" y="154080"/>
            <a:ext cx="307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73412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view the previous press releas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swer the following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192120"/>
            <a:ext cx="594360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* What information is being communic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* What type of release is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* Does the release address key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* Overall, is this an effective release?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6095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1722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82296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81532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666880"/>
            <a:ext cx="61722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380880"/>
            <a:ext cx="3733920" cy="5814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s Rele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600200"/>
            <a:ext cx="61722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304920" y="228600"/>
            <a:ext cx="866520" cy="99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5638680" y="304920"/>
            <a:ext cx="8668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16:17:21Z</dcterms:created>
  <dc:creator>Copyright © 2007 by Sports Career Consulting, LLC</dc:creator>
  <dc:description/>
  <dc:language>en-US</dc:language>
  <cp:lastModifiedBy>Chris Lindauer</cp:lastModifiedBy>
  <dcterms:modified xsi:type="dcterms:W3CDTF">2007-08-30T21:50:46Z</dcterms:modified>
  <cp:revision>12</cp:revision>
  <dc:subject/>
  <dc:title>Slide 1</dc:title>
</cp:coreProperties>
</file>